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60A2-33D6-423C-88E7-FA6A9D147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5FD3-6BF6-4123-BC08-672DA34E54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0BB-24F8-403F-8E84-016126DD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A991-0FAF-44C3-A5C3-B4901C7E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085-CAA4-4504-A377-822D1615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274-E3CA-439B-A004-CE621B13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D67-43C5-4297-8567-5EF62AB3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CD2-AB3E-46A1-9266-9B9EDCF7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8F2-B086-4B59-B28C-9D09ED8F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A1F-FE61-472D-854C-E815EC71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397-CD1B-421E-B221-E672E88C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39A-1888-4719-B447-DB705321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DCC-C53D-4780-8E5F-41BDA3C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48E-2B93-46D0-8F07-8EEAD12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260A-29C0-4DA3-A3D2-99F1EC62094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44600" y="262080"/>
            <a:ext cx="7493040" cy="1285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547040" cy="1468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3" descr=""/>
          <p:cNvPicPr/>
          <p:nvPr/>
        </p:nvPicPr>
        <p:blipFill>
          <a:blip r:embed="rId1"/>
          <a:stretch/>
        </p:blipFill>
        <p:spPr>
          <a:xfrm>
            <a:off x="444600" y="152280"/>
            <a:ext cx="7493040" cy="1468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6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едагогическая лаборатория учителя (в формате презентации на педагогическом совете/ методическом семинаре / М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Это важ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ните, что учебное занятие должно раскрывать основные положения Вашего выступления на этапе «Педагогическая лаборатория учителя», в некоторой степени иллюстрировать 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 предм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4153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этап «Методический семинар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нкурсные задания в номинации «Педагогический дебют - 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аочный этап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 Интернет-ресурс (сайт или блог учител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чный эта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разовательный про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ин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конкурсных испытаниях «Интернет-ресурс», «Педагогическая лаборатория учителя», «Учебное занятие» участвуют все конкурсанты, в «Мастер-классе» – только финалис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дебют – 2016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оминации могут принимать участие учителя-предметники образовательных организаций со стажем работы от 0 до 5 ле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в личном блоге (сайте) следующие материал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опыта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даётся практическое обоснование предлагаемых педагогических решений, аргументируются методико-организационные условия, обеспечивающие успех работы учителя, раскрываются показатели эффективности его педагогической деятельности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описания опыта работы с приложениями - до 40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 «Гордимся прошлым – строим будущее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тражаются мировоззренческая, культурологическая, психолого-педагогическая позиции учителя (формат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Wor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ъём - не более 3-5 тыс. компьютерных знаков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0440" indent="340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0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ная (портрет) и жанровая цветная с урока или внеклассного мероприя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692280" y="412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ритерии оцениван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новизна раскрытия темы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мение организовать работу учащихся с разными видами источников знаний, включая ЭОР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хнологичность учебного занят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азнообразных форм и видов деятельност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терии оценивания учебного занятия (продолже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ультура речи учител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учебного  занятия  и рефлексия своей деятельности в соответствии с существующими методиками (на выбор учителя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культуры проектирования в образовании, видения существующих проблем и путей их решения, умения продуктивно работать в команде и выстраивать конструктивное взаимодей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т конкурсно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руппы из 4 конкурсантов (состав определяется жребием) в течение 15 минут проводят обсуждение и выбирают тему образовательного проекта, распределяют зоны ответственности каждого члена команды. Группы получают не менее 1 часа для разработки образовательного проекта и его оформления в электронном и/или другом формате. Для представления образовательного проекта на сцене группа получает 20 минут и в течение 10 минут отвечает на вопросы жю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ек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конкурсного зад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деяте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ая и языковая культур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и реалистичность реш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и оригинальность в представлении про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Фина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0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педагогической общественности, отражающе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чение преподаваемого предмета для формирования мировоззрения и общекультурных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омпетентностей.</a:t>
            </a:r>
            <a:r>
              <a:rPr b="0" lang="tt-RU" sz="2400" spc="-1" strike="noStrike">
                <a:solidFill>
                  <a:srgbClr val="000000"/>
                </a:solidFill>
                <a:latin typeface="Verdana"/>
              </a:rPr>
              <a:t> Тема  сообщается за день до проведения конкурсного мероприят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нал. Мастер-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выбранного содерж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 проведения мастер-кла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широкой аудитори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публичного выступ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892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курсные мероприятия 1 (заочного) тура. Интернет-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ритерии оценива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едставленного на Интернет-ресурсе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сть и регулярность обновления информ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ресной и полезной информации для целевой аудитор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, логичность подачи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 качество иллюстративного материал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листическая целостность, структурированность Интернет-ресур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ство навигаци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формл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терактивных сервисов (комментариев, форумов, опрос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ные мероприятия 2 тура. Педагогическая лаборатория учителя (регламент до 12 минут, включая вопрос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темо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, 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личие мониторинга результативности педагогического опыта в соответствии с заявленной методической т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Лариса Сомова</cp:lastModifiedBy>
  <dcterms:modified xsi:type="dcterms:W3CDTF">2015-12-29T23:25:59Z</dcterms:modified>
  <cp:revision>46</cp:revision>
  <dc:subject/>
  <dc:title>Представление опыта</dc:title>
</cp:coreProperties>
</file>